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-17784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48320" y="6205680"/>
            <a:ext cx="226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78D7-7E8C-4392-8CD2-EC5CC36B35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5440" y="6140520"/>
            <a:ext cx="7232760" cy="43092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nderausbildung VZ – Gesamtkonzep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ude Gisi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1285560" y="616284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idgenössisches Departement des Innern EDI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ndesamt für Statistik B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idgenössisches Departement des Innern EDI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ndesamt für Statistik B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79280" algn="ctr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58920" algn="ctr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538200" algn="ctr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census@bfs.admin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6720" y="2455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000000"/>
                </a:solidFill>
                <a:latin typeface="Arial"/>
              </a:rPr>
              <a:t>Sonderausbildung VZ</a:t>
            </a:r>
            <a:br>
              <a:rPr sz="4400"/>
            </a:b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Gesamtkonzep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90320" y="5506920"/>
            <a:ext cx="7429320" cy="10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ationsveranstaltung: Vorbereitung der VZ2010 und der Erhebung Aus- und Weiterbildung 2011 – 8. Okto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Claude Gis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155556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1. Worum geht es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43160" y="2493720"/>
            <a:ext cx="7462800" cy="31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Die Auswertung der Volkszählung (VZ) ab 2010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wird relativ komplex sein (Stichprobenerhebungen statt Vollerhebun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beinhaltet neue Komponente (vor allem Strukturerhebung, inklusiv diverse Verdichtunge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integriert völlig neue Methoden (</a:t>
            </a:r>
            <a:r>
              <a:rPr b="0" i="1" lang="de-CH" sz="2100" spc="-1" strike="noStrike">
                <a:solidFill>
                  <a:srgbClr val="000000"/>
                </a:solidFill>
                <a:latin typeface="Arial"/>
              </a:rPr>
              <a:t>small area estimation, pooling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155556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2. Angebot einer Sonderausbild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24080" y="2422440"/>
            <a:ext cx="7462800" cy="31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Um den Wechsel in die neue VZ zu vereinfachen und begleiten, schlägt das BFS vo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eine Sonderausbildung 2010-2011 (Methodik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und 2 Workshops 2011 und 2013 (Resultat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für die Statistikdienste der Kantone und Städte zu organisieren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148428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3. Grundsätz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3440" y="2276640"/>
            <a:ext cx="74628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71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Die Sonderausbildung VZ wir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Teile der bestehenden Fachausbildungsofferte des BF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und einen spezieller Kurs über </a:t>
            </a:r>
            <a:r>
              <a:rPr b="0" i="1" lang="de-CH" sz="2100" spc="-1" strike="noStrike">
                <a:solidFill>
                  <a:srgbClr val="000000"/>
                </a:solidFill>
                <a:latin typeface="Arial"/>
              </a:rPr>
              <a:t>small area estimation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anbiet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Dieses Grundprogramm wird durch 2 Workshops ergänz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über die Resultate der 1. Strukturerhebung (Winter 201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Bei der Einführung der ersten « </a:t>
            </a:r>
            <a:r>
              <a:rPr b="0" i="1" lang="de-CH" sz="2100" spc="-1" strike="noStrike">
                <a:solidFill>
                  <a:srgbClr val="000000"/>
                </a:solidFill>
                <a:latin typeface="Arial"/>
              </a:rPr>
              <a:t>gepoolten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 » Resultate (voraussichtlich Ende 2013 – Mitte 2014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85920" y="360360"/>
            <a:ext cx="746280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4. Der Vorschlag in der </a:t>
            </a:r>
            <a:r>
              <a:rPr b="1" lang="fr-CH" sz="28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bersich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71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8000" y="1220760"/>
            <a:ext cx="8928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148572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5. Weiteres Vorgehe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15800" y="2400480"/>
            <a:ext cx="7499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ach 8.10.09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die statistischen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Ämter der Städte und Kantone sind eingeladen, Ihre Interesse für die Sonderausbildung anzumelden (E-Mail an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census@bfs.admin.ch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Anmeldefrist: 30. Oktober 200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de November 2009: Antrag an die GL BFS und danach Feedback an die statistischen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Ämter der Städte und Kanton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fang 2010: Realisier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1:37:48Z</dcterms:created>
  <dc:creator>Claude Gisiger</dc:creator>
  <dc:description/>
  <dc:language>en-US</dc:language>
  <cp:lastModifiedBy>Sonia Donzé</cp:lastModifiedBy>
  <cp:lastPrinted>2003-11-14T16:51:38Z</cp:lastPrinted>
  <dcterms:modified xsi:type="dcterms:W3CDTF">2009-10-06T08:09:16Z</dcterms:modified>
  <cp:revision>16</cp:revision>
  <dc:subject/>
  <dc:title>Sonderausbildung SHAPE Gesamtkonzept</dc:title>
</cp:coreProperties>
</file>